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46BA-00CF-4074-86D7-9398589A9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D855-FFF4-4A6A-B95C-276030B0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6ED2-15BF-41A1-9C8E-6E699AFB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2317-0AB5-47A1-9524-19813DB1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0252-41F0-434D-AAB1-BEC84C36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B859-CE1E-48EB-86E3-BF60CC50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2141-91B1-47AC-A55C-7FD4BBF7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9E27-BD69-4D4E-8CD6-4810A98E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4A84-2367-4736-8044-143A26EE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8AB8-99CB-45FC-8C22-2E66AEB7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F1DA-F464-4ECE-828B-8CA77432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9830-B64A-47B3-BFBB-52A0F19B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0068-68D9-4C86-AB4B-CE46B7670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GPT ending 3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ccept our thanks and prais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good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rough your Son, our Redeem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 Chri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ith whom and in who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by the Spirit who dwells in u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worship you in joyful so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lessing and honour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lory and 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re yours for ever and ever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0:10:19Z</dcterms:created>
  <dc:creator>Anon Anon</dc:creator>
  <dc:description/>
  <dc:language>en-US</dc:language>
  <cp:lastModifiedBy>Anon Anon</cp:lastModifiedBy>
  <dcterms:modified xsi:type="dcterms:W3CDTF">2005-08-09T05:23:49Z</dcterms:modified>
  <cp:revision>11</cp:revision>
  <dc:subject/>
  <dc:title>PowerPoint Presentation</dc:title>
</cp:coreProperties>
</file>